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02F2-28DB-47DB-A102-E039F4D3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D1FE-B7B4-4A5E-BAD3-A014636A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9F6A-FA1E-4D32-A186-92F5C3A8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E3E9-B930-4714-B284-A8448035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6C8-51AD-4E50-9663-C33A2B39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276B-7DCE-467E-8803-4EB479B0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99B-B2CF-48A5-BAFF-3B9F274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E66F-1DBE-4010-84B0-6D1A143E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316-74E9-45F8-AFB9-FD818D60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642-0778-401B-A192-627D37D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26AA-8161-45F2-B485-1FB26B8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BECC-E4C3-4593-8737-9000781D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3861-7A0C-4D1B-9E0B-163521B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60BE-3ADF-425D-8EC8-6B839F73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8500-A214-4BC9-A458-BB7CAC5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421E-9346-412A-BC15-F31D4618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4F64-EBF3-4320-80C0-25BA869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9B41-E3EB-4FB0-A51E-D405173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A7F3-BB1D-437B-9792-637778E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C48B-5CC7-48E5-86F0-28E3733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18EE-32A0-4892-B4A7-1758C1AB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E1B6-7AB1-49CA-9207-47A9843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7559-29A4-48FC-9BA4-5835072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C5DB-1669-486B-BCEF-59E9163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01D-1B7F-4F77-8A43-6F38280DB3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cc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78C-F49E-437F-A170-2CEF3733D1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Lucida Bright"/>
              </a:rPr>
              <a:t>El presente perfect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36655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02" name="Picture 6" descr="MCj03914620000[1]"/>
          <p:cNvPicPr/>
          <p:nvPr/>
        </p:nvPicPr>
        <p:blipFill>
          <a:blip r:embed="rId1"/>
          <a:stretch/>
        </p:blipFill>
        <p:spPr>
          <a:xfrm>
            <a:off x="3660840" y="380880"/>
            <a:ext cx="182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with the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t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participle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 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w you tr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18"/>
          <p:cNvSpPr/>
          <p:nvPr/>
        </p:nvSpPr>
        <p:spPr>
          <a:xfrm>
            <a:off x="609480" y="13716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On a sheet of paper, see if you can figure out the present perfect forms for the verb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habl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habl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8"/>
          <p:cNvSpPr/>
          <p:nvPr/>
        </p:nvSpPr>
        <p:spPr>
          <a:xfrm>
            <a:off x="60948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28" descr="MCPE03021_0000[1]"/>
          <p:cNvPicPr/>
          <p:nvPr/>
        </p:nvPicPr>
        <p:blipFill>
          <a:blip r:embed="rId1"/>
          <a:stretch/>
        </p:blipFill>
        <p:spPr>
          <a:xfrm>
            <a:off x="7086600" y="609480"/>
            <a:ext cx="153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et’s try anothe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w see if you can form the present perfect forms of the verb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toma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 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go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tom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w let’s try an </a:t>
            </a:r>
            <a:r>
              <a:rPr b="1" i="1" lang="es-ES" sz="4400" spc="-1" strike="noStrike">
                <a:solidFill>
                  <a:srgbClr val="e5e5ff"/>
                </a:solidFill>
                <a:latin typeface="Garamond"/>
              </a:rPr>
              <a:t>–er 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erb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e if you can come up with the present perfect forms for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come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com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et’s try another one…see if you can come up with the present perfect tense of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_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 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___ ______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s this what you came up wit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3124080"/>
          <a:ext cx="5867280" cy="24591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i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y of you may have assumed tha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d an irregular past participle.  Afterall, i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oe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have an irregula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esent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participle.  Bu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is actually regular in this tense.  Here are some verbs that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r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irregular in the past partici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Qué es el presente perfec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The present perfect is formed by combining a helping verb (“have” or “has”) with the past participl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Not exactly irregular but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e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bs whose stems end in a vowel have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a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re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re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e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le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oí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o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í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eí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ra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Irregula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he following verbs have irregular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bi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u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bier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cub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escubi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crib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cri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r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er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n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ue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mp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ro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is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olv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8" descr="MPj04050260000[1]"/>
          <p:cNvPicPr/>
          <p:nvPr/>
        </p:nvPicPr>
        <p:blipFill>
          <a:blip r:embed="rId1"/>
          <a:stretch/>
        </p:blipFill>
        <p:spPr>
          <a:xfrm>
            <a:off x="23623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MPj04050260000[1]"/>
          <p:cNvPicPr/>
          <p:nvPr/>
        </p:nvPicPr>
        <p:blipFill>
          <a:blip r:embed="rId2"/>
          <a:stretch/>
        </p:blipFill>
        <p:spPr>
          <a:xfrm>
            <a:off x="16765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Pj04050260000[1]"/>
          <p:cNvPicPr/>
          <p:nvPr/>
        </p:nvPicPr>
        <p:blipFill>
          <a:blip r:embed="rId3"/>
          <a:stretch/>
        </p:blipFill>
        <p:spPr>
          <a:xfrm>
            <a:off x="990720" y="380880"/>
            <a:ext cx="696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MPj04050280000[1]"/>
          <p:cNvPicPr/>
          <p:nvPr/>
        </p:nvPicPr>
        <p:blipFill>
          <a:blip r:embed="rId4"/>
          <a:stretch/>
        </p:blipFill>
        <p:spPr>
          <a:xfrm>
            <a:off x="6172200" y="533520"/>
            <a:ext cx="16765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re irregula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hese verbs have irregular past participles ending in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ch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ci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i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acer →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he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5" descr="hechoamano"/>
          <p:cNvPicPr/>
          <p:nvPr/>
        </p:nvPicPr>
        <p:blipFill>
          <a:blip r:embed="rId1"/>
          <a:stretch/>
        </p:blipFill>
        <p:spPr>
          <a:xfrm>
            <a:off x="4952880" y="2438280"/>
            <a:ext cx="291492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¡Practicamos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e if you can form the correct present perfect using the subject and verb g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odelo:  yo / decidir →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He decidi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ella / abrir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a abier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Marta y yo / toca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emos tocado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Gonzalo / crec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Ha crecido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ú y tus amigos / reí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reído / habéis reí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s padres / ha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hec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us abuelos / cubr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cubier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gelio y Ramón / escrib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Han escri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or ejemplo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For examp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ve played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tenni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s sung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at wedding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Garamond"/>
              </a:rPr>
              <a:t>have flown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 in a pla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6" descr="MPj04031090000[1]"/>
          <p:cNvPicPr/>
          <p:nvPr/>
        </p:nvPicPr>
        <p:blipFill>
          <a:blip r:embed="rId1"/>
          <a:stretch/>
        </p:blipFill>
        <p:spPr>
          <a:xfrm>
            <a:off x="5029200" y="4343400"/>
            <a:ext cx="3276720" cy="2192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9e82e4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 in ing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To form the present participle we combine the helping verb “have/has” with a past participl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For example, “I </a:t>
            </a:r>
            <a:r>
              <a:rPr b="0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have been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 a lifeguard.”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I” is the subjec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have” is the  helping verb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s-ES" sz="3000" spc="-1" strike="noStrike">
                <a:solidFill>
                  <a:srgbClr val="ffffff"/>
                </a:solidFill>
                <a:latin typeface="Garamond"/>
              </a:rPr>
              <a:t>been” is the past participl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MCj03341320000[1]"/>
          <p:cNvPicPr/>
          <p:nvPr/>
        </p:nvPicPr>
        <p:blipFill>
          <a:blip r:embed="rId1"/>
          <a:stretch/>
        </p:blipFill>
        <p:spPr>
          <a:xfrm>
            <a:off x="5791320" y="3505320"/>
            <a:ext cx="2341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 en españ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 Spanish we form the present participle by combining the present tense of the verb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aber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the helping verb, o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l verbo auxili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with a past partici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2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For example: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7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Yo </a:t>
            </a:r>
            <a:r>
              <a:rPr b="1" lang="es-ES" sz="2900" spc="-1" strike="noStrike">
                <a:solidFill>
                  <a:srgbClr val="ffffff"/>
                </a:solidFill>
                <a:latin typeface="Garamond"/>
              </a:rPr>
              <a:t>he bailado</a:t>
            </a: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2700" spc="-1" strike="noStrike">
                <a:solidFill>
                  <a:srgbClr val="ffffff"/>
                </a:solidFill>
                <a:latin typeface="Franklin Gothic Book"/>
              </a:rPr>
              <a:t>I have danced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72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Nosotros no </a:t>
            </a:r>
            <a:r>
              <a:rPr b="1" lang="es-ES" sz="2900" spc="-1" strike="noStrike">
                <a:solidFill>
                  <a:srgbClr val="ffffff"/>
                </a:solidFill>
                <a:latin typeface="Garamond"/>
              </a:rPr>
              <a:t>hemos estudiado</a:t>
            </a:r>
            <a:r>
              <a:rPr b="0" lang="es-ES" sz="2900" spc="-1" strike="noStrike">
                <a:solidFill>
                  <a:srgbClr val="ffffff"/>
                </a:solidFill>
                <a:latin typeface="Garamond"/>
              </a:rPr>
              <a:t> para el exame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2700" spc="-1" strike="noStrike">
                <a:solidFill>
                  <a:srgbClr val="ffffff"/>
                </a:solidFill>
                <a:latin typeface="Franklin Gothic Book"/>
              </a:rPr>
              <a:t>We haven’t studied for the test.</a:t>
            </a:r>
            <a:r>
              <a:rPr b="0" i="1" lang="es-ES" sz="2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MCj00787660000[1]"/>
          <p:cNvPicPr/>
          <p:nvPr/>
        </p:nvPicPr>
        <p:blipFill>
          <a:blip r:embed="rId1"/>
          <a:stretch/>
        </p:blipFill>
        <p:spPr>
          <a:xfrm>
            <a:off x="4267080" y="3048120"/>
            <a:ext cx="18846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The present tense of </a:t>
            </a:r>
            <a:r>
              <a:rPr b="1" i="1" lang="es-ES" sz="4400" spc="-1" strike="noStrike">
                <a:solidFill>
                  <a:srgbClr val="e5e5ff"/>
                </a:solidFill>
                <a:latin typeface="Garamond"/>
              </a:rPr>
              <a:t>hab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Remembe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How to form the past participl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 –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verbs, take the stem of the verb and add –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xample: comprar →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compr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e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verbs, take the stem of the verb and add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–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xample: tener →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ten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Here are the present perfect forms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estudi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 estudiado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ra formar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As you can see I have combined the present forms of </a:t>
            </a:r>
            <a:r>
              <a:rPr b="0" i="1" lang="es-ES" sz="3600" spc="-1" strike="noStrike">
                <a:solidFill>
                  <a:srgbClr val="ffffff"/>
                </a:solidFill>
                <a:latin typeface="Garamond"/>
              </a:rPr>
              <a:t>haber 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(the helping verb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2480" y="3124080"/>
          <a:ext cx="5867640" cy="25354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mo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béi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n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21:14:57Z</dcterms:created>
  <dc:creator>Britta Smith</dc:creator>
  <dc:description/>
  <dc:language>en-US</dc:language>
  <cp:lastModifiedBy>admin</cp:lastModifiedBy>
  <dcterms:modified xsi:type="dcterms:W3CDTF">2012-01-25T14:09:28Z</dcterms:modified>
  <cp:revision>48</cp:revision>
  <dc:subject/>
  <dc:title>El presente perfecto</dc:title>
</cp:coreProperties>
</file>